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00C-9035-4DB6-B8CA-A0895C8E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699-1653-4A44-A58F-EC16FAF2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CC8-948E-4F44-93AD-CDF0FF21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ABD-CB65-4770-857B-6D4EE323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7D5-0CBB-4B20-8A07-BB7C36C2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398-BD07-4071-8890-61CF252D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B83-C9A2-4A51-BECB-286950B1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F6F-BB2D-4DB9-AB21-B49536DE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3C1-971F-4E25-966A-096E01B9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993-A6E4-4DD8-890A-CE0F6CE1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28A-090E-4926-95C1-0A96321E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089-DFF4-4C52-BDF9-92A8C1B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0C5B-32F5-4FC7-A256-914D07DAC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1080" y="546120"/>
            <a:ext cx="62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Lucida Handwriting"/>
              </a:rPr>
              <a:t>Have a refreshing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8001000"/>
            <a:ext cx="1600200" cy="87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3160" y="8137440"/>
            <a:ext cx="584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Each bottle of Fuze Refresh has 100% of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Recommended Daily Allowance of ess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vitamins and bone building calc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5:14Z</dcterms:created>
  <dc:creator>WPS</dc:creator>
  <dc:description/>
  <dc:language>en-US</dc:language>
  <cp:lastModifiedBy>WPS</cp:lastModifiedBy>
  <dcterms:modified xsi:type="dcterms:W3CDTF">2008-06-02T13:43:04Z</dcterms:modified>
  <cp:revision>7</cp:revision>
  <dc:subject/>
  <dc:title>Slide 1</dc:title>
</cp:coreProperties>
</file>